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F60-776C-41D9-A4E0-2C44AE99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AA0-AA09-4106-894D-26796D94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BC3-643B-43FD-BE00-CB09CF24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7D0B-A37C-4844-93CD-6F4D4B55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15E-5EA2-4BE4-BE6B-E2AD1B78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53D-77FA-45C2-A396-8D5D7B86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8EA-BB1F-4DF5-AA19-1C71AC06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571-B08D-4D3D-B41C-DE8C4F6F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FB8-7037-4BC1-9A93-374CC961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49D-1070-47C7-B34D-E49FFC5D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DF9-2B43-4008-970C-98D81645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016-7A80-44E7-AACB-17385547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09CA-0E6D-45BB-BCBA-246632DEB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85800" y="1447920"/>
            <a:ext cx="7848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鼻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íz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hē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奇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íguà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ange; surprising; od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很多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ěndu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y man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ē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á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高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āoxì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ad; happy; cheerful; be willing to; be happy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想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iǎ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uld like to;  remember with longing; mi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要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àoyǒ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; requ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ó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房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ángz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u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ǎ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 awa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ǒ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兔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ùz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e; rab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 directed at;  bring (two things) into conta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throw; cas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à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g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是小人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orded Sound" descr=""/>
          <p:cNvPicPr/>
          <p:nvPr/>
        </p:nvPicPr>
        <p:blipFill>
          <a:blip r:embed="rId1"/>
          <a:stretch/>
        </p:blipFill>
        <p:spPr>
          <a:xfrm>
            <a:off x="-53352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对房子丢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Recorded Sound" descr=""/>
          <p:cNvPicPr/>
          <p:nvPr/>
        </p:nvPicPr>
        <p:blipFill>
          <a:blip r:embed="rId1"/>
          <a:stretch/>
        </p:blipFill>
        <p:spPr>
          <a:xfrm>
            <a:off x="-99072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udolph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说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st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你 不能对房子丢蛋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请善良一点吧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你对房子与礼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Recorded Sound" descr=""/>
          <p:cNvPicPr/>
          <p:nvPr/>
        </p:nvPicPr>
        <p:blipFill>
          <a:blip r:embed="rId1"/>
          <a:stretch/>
        </p:blipFill>
        <p:spPr>
          <a:xfrm>
            <a:off x="-152388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2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ster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对大地与礼品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orded Sound" descr=""/>
          <p:cNvPicPr/>
          <p:nvPr/>
        </p:nvPicPr>
        <p:blipFill>
          <a:blip r:embed="rId1"/>
          <a:stretch/>
        </p:blipFill>
        <p:spPr>
          <a:xfrm>
            <a:off x="-53352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人人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corded Sound" descr=""/>
          <p:cNvPicPr/>
          <p:nvPr/>
        </p:nvPicPr>
        <p:blipFill>
          <a:blip r:embed="rId1"/>
          <a:stretch/>
        </p:blipFill>
        <p:spPr>
          <a:xfrm>
            <a:off x="-76212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dolph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回家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Recorded Sound" descr=""/>
          <p:cNvPicPr/>
          <p:nvPr/>
        </p:nvPicPr>
        <p:blipFill>
          <a:blip r:embed="rId1"/>
          <a:stretch/>
        </p:blipFill>
        <p:spPr>
          <a:xfrm>
            <a:off x="-76212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很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indeer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Recorded Sound" descr=""/>
          <p:cNvPicPr/>
          <p:nvPr/>
        </p:nvPicPr>
        <p:blipFill>
          <a:blip r:embed="rId1"/>
          <a:stretch/>
        </p:blipFill>
        <p:spPr>
          <a:xfrm>
            <a:off x="-838080" y="1752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们很高兴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所以他们飞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Recorded Sound" descr=""/>
          <p:cNvPicPr/>
          <p:nvPr/>
        </p:nvPicPr>
        <p:blipFill>
          <a:blip r:embed="rId1"/>
          <a:stretch/>
        </p:blipFill>
        <p:spPr>
          <a:xfrm>
            <a:off x="-60948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是有一个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ster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兔子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是有很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ristmas reinde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orded Sound" descr=""/>
          <p:cNvPicPr/>
          <p:nvPr/>
        </p:nvPicPr>
        <p:blipFill>
          <a:blip r:embed="rId1"/>
          <a:stretch/>
        </p:blipFill>
        <p:spPr>
          <a:xfrm>
            <a:off x="-129528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9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85800" y="1752480"/>
            <a:ext cx="73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was a reind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 name was Rud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had an odd 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was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 reindeer didn't play with Rud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was 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wanted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ran away to find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riend was a rab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liked throwing eggs at peoples 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dolph told him to s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dolf told him that he should give people gifts to make them forgive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533520" y="15238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ǐ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; ask; invite; engage; &lt;polite&gt; pl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善良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ànliá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and honest; kindhe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吧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auxiliary&gt;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2286000" y="17208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unny was named E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then gave eggs to the whol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dolf then wen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 family was hap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made him in charge of there games including the race in which they pulled a sleigh as fast as they could until they were so fast that they fl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t is were the Easter bunny and the Christmas reindeer came f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是一个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indee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 叫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udolf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orded Sound" descr=""/>
          <p:cNvPicPr/>
          <p:nvPr/>
        </p:nvPicPr>
        <p:blipFill>
          <a:blip r:embed="rId1"/>
          <a:stretch/>
        </p:blipFill>
        <p:spPr>
          <a:xfrm>
            <a:off x="-53352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有红鼻子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鼻子 真奇怪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ecorded Sound" descr=""/>
          <p:cNvPicPr/>
          <p:nvPr/>
        </p:nvPicPr>
        <p:blipFill>
          <a:blip r:embed="rId1"/>
          <a:stretch/>
        </p:blipFill>
        <p:spPr>
          <a:xfrm>
            <a:off x="-990720" y="182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有很多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de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corded Sound" descr=""/>
          <p:cNvPicPr/>
          <p:nvPr/>
        </p:nvPicPr>
        <p:blipFill>
          <a:blip r:embed="rId1"/>
          <a:stretch/>
        </p:blipFill>
        <p:spPr>
          <a:xfrm>
            <a:off x="-91440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们不跟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dolph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1"/>
          <a:stretch/>
        </p:blipFill>
        <p:spPr>
          <a:xfrm>
            <a:off x="-762120" y="182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  不 高兴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想要有朋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Recorded Sound" descr=""/>
          <p:cNvPicPr/>
          <p:nvPr/>
        </p:nvPicPr>
        <p:blipFill>
          <a:blip r:embed="rId1"/>
          <a:stretch/>
        </p:blipFill>
        <p:spPr>
          <a:xfrm>
            <a:off x="-83808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从房子跑走了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orded Sound" descr=""/>
          <p:cNvPicPr/>
          <p:nvPr/>
        </p:nvPicPr>
        <p:blipFill>
          <a:blip r:embed="rId1"/>
          <a:stretch/>
        </p:blipFill>
        <p:spPr>
          <a:xfrm>
            <a:off x="-76212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有一个兔子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兔子叫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st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1"/>
          <a:stretch/>
        </p:blipFill>
        <p:spPr>
          <a:xfrm>
            <a:off x="-53352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6:49:04Z</dcterms:created>
  <dc:creator>itsuser</dc:creator>
  <dc:description/>
  <dc:language>en-US</dc:language>
  <cp:lastModifiedBy>itsuser</cp:lastModifiedBy>
  <dcterms:modified xsi:type="dcterms:W3CDTF">2009-02-26T17:02:05Z</dcterms:modified>
  <cp:revision>9</cp:revision>
  <dc:subject/>
  <dc:title>这是一个reindeer。 他 叫 Rudolf。</dc:title>
</cp:coreProperties>
</file>